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C9BC-F501-41C0-BF87-48FE7D68613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- профессия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жно знать, чтобы помочь и предупреди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 Д. Горб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ECB3-3344-476C-932C-A17BCE6E60A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10AB-103F-41BD-A959-BE3CBA767C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и психолога, связанные с космонав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7623-E7BE-423B-AD3F-49026175E7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 всегда может поделиться с ним впечатлениями, психологическим состоя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ует на трениро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, как ведет себя космона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731A-1FBD-4E02-B258-9D29CCB448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сколько психологическая подготовка важна для космонавтов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громное, так как круг проблем поведения и работоспособности в сложных условиях очень ши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A28A-E346-4708-ADE8-449B731E28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психологи помогают космонавтам избежать стресс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использовать силу стресса себе во бла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брать ситуацию под контроль и принимать взвешен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156F-A80D-41C5-88D7-65CB52DA79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бот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подготовки космонавтов имени Гагар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Марс-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дико-биологических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BFE3-9E1D-453B-88BE-4BA183D59A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277E-727B-4D4B-8585-C16A0D9308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треб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 очень редкая, дефицит больш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1ED8-F211-4064-8096-377148EDF8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630-043D-4BAB-8272-ED3E6E87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9FC-EC15-4816-A161-60863128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CB03-2047-4F19-BE85-9EEE53D1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23A3-9614-4C4D-96A5-FBF97B7A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F261-D28E-4A07-AB51-92769885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E13B-6DD6-4548-82D8-42805E82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2ABA-5D35-4446-95DD-1E1365BF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9D18-1C69-427A-B828-CD91C536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AB0D-56F9-452C-AB81-FB0E3408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E4B9-7687-401B-AF49-10FD3480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076B-B381-4A7B-BDC3-D4D70B8D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585-BF93-4726-B7B6-05B3F498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B12D-4038-45EC-9968-5E52B290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1DF7-B16A-4F23-B23D-019879DE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CC0A-D7F7-4CDE-B7D5-27F6E1DE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CA30-2DF3-4373-8FF2-D5B960AF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EF73-37CA-4123-BEC5-1D1159EA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4D1-B0D8-4B24-865F-62058180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EC1-1F2F-4F9B-8812-C780C0C5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709-FB62-4097-A6D8-8B0C15F6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BB82-2A15-465D-8632-B457A4B8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3D0-FD76-40BB-A01D-0E5A355B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86F-45BE-4501-963B-5471DA97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301-B139-4D7F-96CA-E3EEC140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E6CD-2744-4E15-9644-49F2CBC9C93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0420-C69D-4093-9B8E-85A6C5A184E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сихолог - профессия будущего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7760" y="4038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ажно знать, чтобы помочь и предупреди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Ф. Д. Горб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 rot="1287000">
            <a:off x="2361960" y="2819160"/>
            <a:ext cx="2952720" cy="2420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Должности психолога, связанные с космонавтам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ач-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енный 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2571480" cy="20066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Доверенный психолог</a:t>
            </a:r>
            <a:br>
              <a:rPr sz="36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монавт всегда может поделиться с ним впечатлениями, психологическим состоя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тствует на трениров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ает, как ведет себя космона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рач-психолог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психологические т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ует психическую деятельность человека в условиях подготовки и осуществления космических пол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медицинские об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Насколько психологическая подготовка важна для космонавтов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огромное, так ка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г проблем поведения и работоспособности в сложных условиях очень широ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7039080" y="3733920"/>
            <a:ext cx="1938240" cy="2895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ак психологи помогают космонавтам избежать стресс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использовать силу стресса себе во бла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брать ситуацию под контроль и принимать взвешенные реш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Где работать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 подготовки космонавтов имени Гагар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Марс-5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 медико-биологических пробл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6248520" y="4800600"/>
            <a:ext cx="2019240" cy="14716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ерспектив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6462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8"/>
          <p:cNvGrpSpPr/>
          <p:nvPr/>
        </p:nvGrpSpPr>
        <p:grpSpPr>
          <a:xfrm>
            <a:off x="838080" y="2133720"/>
            <a:ext cx="7315200" cy="1676160"/>
            <a:chOff x="838080" y="2133720"/>
            <a:chExt cx="7315200" cy="1676160"/>
          </a:xfrm>
        </p:grpSpPr>
        <p:sp>
          <p:nvSpPr>
            <p:cNvPr id="132" name="Rectangle 14"/>
            <p:cNvSpPr/>
            <p:nvPr/>
          </p:nvSpPr>
          <p:spPr>
            <a:xfrm>
              <a:off x="5486400" y="2133720"/>
              <a:ext cx="2666880" cy="16761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Штатны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психолог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(для экспедиций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Group 15"/>
            <p:cNvGrpSpPr/>
            <p:nvPr/>
          </p:nvGrpSpPr>
          <p:grpSpPr>
            <a:xfrm>
              <a:off x="838080" y="2133720"/>
              <a:ext cx="4648320" cy="1676160"/>
              <a:chOff x="838080" y="2133720"/>
              <a:chExt cx="4648320" cy="16761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838080" y="2133720"/>
                <a:ext cx="2971800" cy="16761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Доверенный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психолог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AutoShape 17"/>
              <p:cNvSpPr/>
              <p:nvPr/>
            </p:nvSpPr>
            <p:spPr>
              <a:xfrm>
                <a:off x="3809880" y="2743200"/>
                <a:ext cx="1676520" cy="456840"/>
              </a:xfrm>
              <a:prstGeom prst="rightArrow">
                <a:avLst>
                  <a:gd name="adj1" fmla="val 50000"/>
                  <a:gd name="adj2" fmla="val 91745"/>
                </a:avLst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Picture 22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1517760" cy="20667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стребованн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я очень редкая, дефицит больш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1681200" cy="2438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7:18:45Z</dcterms:created>
  <dc:creator>Администратор</dc:creator>
  <dc:description/>
  <dc:language>en-US</dc:language>
  <cp:lastModifiedBy>LEGION</cp:lastModifiedBy>
  <dcterms:modified xsi:type="dcterms:W3CDTF">2014-11-12T10:10:2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